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9AD-5D5A-4A06-9FCB-5AB21426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8EC-10AA-4791-A843-C4A39C73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D80-4DA6-49E5-AC95-902AC26B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EC2-391C-40DF-9852-0C629A0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9E3D-3B6C-4183-857E-175C9D1D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930B-1911-45F4-B7FC-DC1D320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F24-7D2D-469E-B579-D85E964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5667-5447-4CD4-BC4B-E7E98AC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C629-47B7-4EDF-A9FD-4BCBED4A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A42F-B8BA-4EDE-BD81-0D96D1D1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659C-F85C-4D2F-94FC-5DE3B3E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8B3-B5B0-4E88-A1EE-B92C159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61D-B0C2-4687-91AF-476C94E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C59D-718B-45DA-ACB0-44B5B82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936-3DAD-410D-8710-82DF9ED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858-525A-4CDD-8395-38823F4C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5A1-FD7A-4FA4-AD9A-656FE172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00F-5835-49E7-AB27-EAD279F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57B-27A4-44DE-8F21-6B600C33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F84-7F05-4B26-8FA7-160D920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915-E8BE-4782-A38C-BDB105E5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F90-02C2-4311-9967-79BF8AE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3E7-6C5E-4977-9327-610C746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111-CA2C-41BB-8534-2D98E41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A3C5-959E-4D6B-8FC1-8AE9D532B1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7A5-1AA1-41F5-9CD8-045D93137D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 without its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178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178.28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442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6858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442.2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3600" y="2819520"/>
          <a:ext cx="31240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1240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성민 학교프로그램용</cp:lastModifiedBy>
  <dcterms:modified xsi:type="dcterms:W3CDTF">2008-11-30T07:27:3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